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A23-04BC-4BFA-8B16-A58DF56B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784F-A486-4355-87F1-F5AB6884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D461-5F55-44E0-B995-CAD322F0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D02-C07E-4286-AB02-FA65AF76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F20-4017-4258-B826-A465B3C3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6CA8-2A18-4BF5-A0DA-9787D5BF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17B-34DD-4C9B-9CD7-C85F15B4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652C-0D82-4AE4-8FC5-2B15FAFB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76C-D72A-4079-A374-375E2590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32AC-A7EE-4ABD-A6F3-D942C260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0DA7-C14E-4CC8-8C74-2C3CFA17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BBB-3F99-4DAC-B970-A1E9714C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5CA9-0D77-4D82-A6FE-54FB924456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доров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19640" y="537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дготовил Долгополов Иль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2 «А»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того, чтобы быть всегда здоровым, нужн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людать распорядок д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шать только полезную е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ниматься физкультурой и спор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иногда случается так, что человек не хочет есть нормальную, здоровую пищу, заниматься спортом, ходить на физкульту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 тогда он может заболеть. Будет болеть живот, увеличится вес и человек будет очень часто боле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все из-за недостатка витаминов. Ведь только в полезной и здоровой еде присутствуют полезные вещества и витамин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 физкультурой нужно заниматься, потому что тогда вес не будет набираться, и организму будет легч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ирамида пит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063960" y="1203480"/>
            <a:ext cx="5757840" cy="5654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3120" y="907560"/>
            <a:ext cx="30258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этой пирамиде написано какую еду и в каком количестве нужно употребля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1f497d"/>
                </a:solidFill>
                <a:latin typeface="Calibri"/>
              </a:rPr>
              <a:t>Желаю вам здоровья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2:00:56Z</dcterms:created>
  <dc:creator>dim4ok</dc:creator>
  <dc:description/>
  <dc:language>en-US</dc:language>
  <cp:lastModifiedBy>dim4ok</cp:lastModifiedBy>
  <dcterms:modified xsi:type="dcterms:W3CDTF">2011-05-19T18:58:53Z</dcterms:modified>
  <cp:revision>2</cp:revision>
  <dc:subject/>
  <dc:title>Здоровье</dc:title>
</cp:coreProperties>
</file>